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5074-9624-4647-9171-018FEE385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1CCC-4A5D-49D6-AAA8-1E061F19C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8898-A865-496D-B792-A13C2DC6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875E-A0C3-41C3-98D8-9CD11485A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A898-2BE0-438E-A7B3-0E66C79C6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63B1-7F8D-47EB-B2EA-969F433F5E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E94E-AC73-45AF-B28E-E8C6A89DEF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0088-6A55-471B-8A26-B04C56E1E3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3D54-2C94-416A-B277-05C92ECC26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4A19-F905-471B-8562-8563AB89AA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5094-1801-4921-8554-A1FE41F72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D0C3-54C3-4D71-8458-481187224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6B85-EA85-41B1-91DF-6A0EB0F1B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0448-0BD2-4918-90FA-2E6F03DF20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C322-654A-494F-AC93-DC8624028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1EA1-A7E6-4A83-A9C8-C6431F226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DA18-D5CC-424D-8377-72050635F7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E66-0E4A-4136-AB09-FF6AF7D110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8D1-F47C-43DD-8D6E-E10CA0A82D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BA1-E1BD-4381-B8D3-C4E2C4EA41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DBA-2F8E-4E49-B88C-5D8FAC35EC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C3A-0A0E-47CC-A597-E0FA0010B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A987-2536-4EFC-B80F-3F91FBC2DE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E20-57D0-4704-9D90-5C3298B93E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82F-11F2-4837-9DAA-36C3AD8F0B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534-CFC0-4632-9C95-DBC4EA54D8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30F-24C6-449D-BD24-9111D83F67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458-9BD8-4D0A-AD9B-CF8BB7E006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26E-2CD8-4A1B-A8F3-F3BCDF3E05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88-99BF-4B2B-AC75-31045571FF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E4A0A-52E8-445B-9BA4-F8B1DB0CD3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99C94-503A-44E4-AA71-9B962E5DD2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53CE2-2439-456E-9636-E43ED66C3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1AD1-5B60-40CB-91E0-59A244FED8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10E61-A9A2-4437-ACF9-73E48EE47C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24187-250A-4CD1-8765-D44B365C88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CD10E-1F29-411A-9336-E10C984708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1A94C-ADB8-4467-9D0E-53E82301EF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67FEA-B5C0-4BA2-B3F3-1FDE581CE4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18380-1064-475D-AA61-F15D556925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88040-92A3-4F60-873C-848B09BA0D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5CB55-DCAB-40FF-A36D-09720E9F53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F41BF-D45A-4330-B727-3B8093365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9705-B4BE-4BF8-8295-5DCDF6907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3F6A-AA6A-46BC-B4A7-D1DF8905C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0DAB-EA2E-4577-AE27-2FD8AFDB8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ACF2-96E1-4FCB-8883-CF78E198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9950-4464-4811-ABFA-7420C6611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4FD0-6DBE-4B42-9744-F47466A530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95040"/>
            <a:ext cx="90694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54800" y="6886440"/>
            <a:ext cx="2919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4DF-1C6A-40EF-BD5B-96846E8EE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7FC3-D876-4F7F-9BE2-E0A1F09E6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EC8-0529-46E6-9CA4-90C3DA1DA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7360" y="309600"/>
            <a:ext cx="88200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Castle Int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986120"/>
            <a:ext cx="758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A castle had one or more courtyard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veryone ate near the great hal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Castles were also fort’s during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43200" y="4711680"/>
            <a:ext cx="41148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o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828800"/>
            <a:ext cx="758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Filled with water or stakes to make a barrier for men and ho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Dunge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057400"/>
            <a:ext cx="735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holding pris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xtreme cases used for tortu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4219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Drawbrid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057400"/>
            <a:ext cx="712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 wooden platform with one hinged side that connected it to the castle and the other side was raised with ropes or chains</a:t>
            </a: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518148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Portcull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057400"/>
            <a:ext cx="71247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 heavy, spiked door hung from the gatehouse or barbican ce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ropes could be cut quickly and it would fall down, blocking the entrance of inv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0400" y="41148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Gateho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057400"/>
            <a:ext cx="73533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defended by the barbi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ntrance to the cas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ortifie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399096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Barbi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828800"/>
            <a:ext cx="7124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d for defense attack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t the entrance of the castle, confining the enemy in a thin pa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exterior passage leading to the main entrance, the Gat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431496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Curtain W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057400"/>
            <a:ext cx="6896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d for defens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outer wall of the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6-20 feet 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45 feet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1, 500 feet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35719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